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349E-CF1C-43C7-9E88-770FEC991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80A2-8320-4915-8E76-1DC9A3958C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759-C3E0-40A5-9344-9F49EA3493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891-0AF4-4AA7-9880-66CBBDE6E7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CDA-FE58-4D34-A429-91BBC04739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91D-E740-4E12-B625-A254274D61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A020-D915-43B5-9AF7-51FD90B8D0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7AD6-C597-46CD-A856-73E5AEF0FE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9C97-3C55-4106-AE6C-3F6E4812BB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AEEE-CE51-4826-9C7F-7C5E319C67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75A5-A247-409F-8613-91A49316FC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86B-4F28-42B9-8461-4DE3D462C8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3714-E8A4-4200-84EA-87212D306D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C77-8F4A-467A-81EB-E41531A9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637-A4B6-45AC-ABBD-514A484B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EC9-4888-4B5C-845A-83CC404B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602-34D7-4D2C-9568-9A93A69C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1E3-8AE2-4C39-A798-20CC88B7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B62C-E436-4CF4-B625-31595B86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F2FB-5B18-4177-A303-1C786511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E7C7-9C9A-4600-8280-FF4FA31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9176-3614-428D-A8C3-BBABCD34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3172-6D1D-4F44-8FB1-C79C7DE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617E-A82B-4ADF-84A3-A08BA615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CD4-D41B-4EC8-901F-EF4F4F7E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3AEB-722E-4DEB-8C49-5D32096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0EBA-5EDC-4BB8-B07F-34F52E7B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F2B-1936-41F7-95A8-8D955D4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34C6-BF5A-4974-89CD-855746AB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0F2-B25D-4137-AA41-D1E7896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8FFE-1288-481B-ABA1-2772A89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74F6-8A02-48AD-B31B-1C4F0DED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3ED3-9EF4-419D-9856-3AEEA1B2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574E-EFE0-4993-B358-F9028732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3112-4A90-41A2-B0E0-65764988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3BA-0352-45B4-9E6A-7A6BFAC3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702A-878F-4F47-89E7-138E191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BE99-8BB8-48D1-B4D2-346782A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0B4F-EE29-4E0F-84DD-160360C1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2D70-C81D-4837-8ADA-6CA3413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5D8A-B199-4B46-9A60-83DDDF84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F03A-A2B1-4453-BC16-631BA747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7C6D-AF9D-4461-A3D0-06524D3D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AAF8-87DB-494C-8150-133286B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0FCE-846B-46C9-B1CF-6402E24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9351-2763-44A6-B5FA-E763C219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33-A1B6-4082-8861-9FB3E9F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FE04-DC4C-4591-B582-4AA7E8D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2985-962F-4D68-BCB7-253739FB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EDC3-F2C9-4058-953B-BAA030C7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CEF7-D9CE-4B36-ADD0-DCF6EBB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A577-F396-432A-B0E5-0C0FE3B2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F71A-D841-4B7D-9A13-FF956B2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BA38-0E2D-4781-9262-C67C531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BA2E-0B81-49C9-9421-84136F86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E1A6-A539-4B6E-A13B-1FBD5C7F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7BD7-7180-44F4-AB14-F4D8E397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CAD-6045-40E9-A571-875D2AC8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27E5-F4F3-4F98-AEB0-26B7776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8C1A-C06F-4913-A59C-91EE93D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4D51-0DA6-47A1-B3C6-7A9782C2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0A71-73BC-4DD9-A939-4C8CDB14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FADB-A513-46B8-B783-1950F5E0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11CE-89CA-49C0-AA31-4711931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5DE26-A2D4-4191-AE20-E5BED25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5C1A2-D8E2-4B79-8A6D-4F143E9B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C200-5F34-4D30-AE91-6DF8303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A661-4FE4-4E6F-AE40-B814A46F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C57-A5FD-499F-86CF-3A07D761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0FC8-557E-4887-B95B-66E35285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77D7-4D3F-4C5E-826B-26C0126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271B-A252-411F-B255-6FA8BB6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28CB-8191-48F3-900F-2269685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176D-752D-4A92-8A46-24218F6A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34E02-0A46-4627-ACF6-DC96C86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04F8-BBAE-47ED-8A58-D764C99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698C3-6B7E-4355-AEA6-5C13D60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C4AB-F136-46E8-8A16-377B1D0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700C-962C-4C76-A805-16B33A1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DDE-C619-4D00-ADC4-3F2F67F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A741D-94AD-4F35-90FE-F4D8FC0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14F9-6CA9-4E1D-849E-F8E2866A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AE36-F4D4-4008-A0A4-280B7B14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046C2-89BB-45B4-A450-2F37FE76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CD052-9091-4F2C-93B8-6BB419A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EBAD2-C5CF-4DDC-A440-27EDE11F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CAD7-7EB2-4FC0-9C99-74A713E6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63B1D-57F8-4FF6-936E-33BFEE4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64698-3B3D-4D2A-80ED-8C196CB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59F7-D6DB-4460-AD78-8053F70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794-B702-4114-932C-65B5C315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5D266-4E5D-414C-A3E0-8643596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75C54-9315-48BB-8B56-1D25936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42AF-78FE-4B34-9EA2-0A5B4636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25F6-B8DD-4AAA-B204-4C9AEB44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5333-518C-4AC5-A493-DE4623F9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504-C1B7-48DE-95D2-DF7CB8F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72F3-DB71-403A-B7E8-53E46C2E785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F8FC-5EB5-4FEB-8082-29B0E2342AF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2F50-BEFB-4FBB-82E1-CF88D25511E5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957-CF7E-4546-98B0-163E9CA3430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0A8-99E0-4197-88ED-F736A038A13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0C2-9EE6-47B0-86B9-7024B7EF036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99F-7E09-42D8-8127-9C173D42AFF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.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d6ecff"/>
              </a:buClr>
              <a:buSzPct val="9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understand how representations of black culture progressed from one film to the othe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d6ecff"/>
              </a:buClr>
              <a:buSzPct val="9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begin understanding the social implications of these representation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Freestyle-Poster"/>
          <p:cNvPicPr/>
          <p:nvPr/>
        </p:nvPicPr>
        <p:blipFill>
          <a:blip r:embed="rId2"/>
          <a:stretch/>
        </p:blipFill>
        <p:spPr>
          <a:xfrm>
            <a:off x="465120" y="115920"/>
            <a:ext cx="2882880" cy="2165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dulthoodPoster"/>
          <p:cNvPicPr/>
          <p:nvPr/>
        </p:nvPicPr>
        <p:blipFill>
          <a:blip r:embed="rId3"/>
          <a:stretch/>
        </p:blipFill>
        <p:spPr>
          <a:xfrm>
            <a:off x="6156360" y="18900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ask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the following characters into Stuart Hall’s characterisation categories. How have the characters progressed over a period of tim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5" descr="kidulthood203_203x152"/>
          <p:cNvPicPr/>
          <p:nvPr/>
        </p:nvPicPr>
        <p:blipFill>
          <a:blip r:embed="rId1"/>
          <a:stretch/>
        </p:blipFill>
        <p:spPr>
          <a:xfrm>
            <a:off x="4356000" y="515772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freestyle-dance-movie-001"/>
          <p:cNvPicPr/>
          <p:nvPr/>
        </p:nvPicPr>
        <p:blipFill>
          <a:blip r:embed="rId2"/>
          <a:srcRect l="0" t="0" r="55616" b="0"/>
          <a:stretch/>
        </p:blipFill>
        <p:spPr>
          <a:xfrm>
            <a:off x="6732720" y="2924280"/>
            <a:ext cx="1944720" cy="2628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Brinsley+Forde+babylon460"/>
          <p:cNvPicPr/>
          <p:nvPr/>
        </p:nvPicPr>
        <p:blipFill>
          <a:blip r:embed="rId3"/>
          <a:srcRect l="54745" t="0" r="0" b="0"/>
          <a:stretch/>
        </p:blipFill>
        <p:spPr>
          <a:xfrm>
            <a:off x="395280" y="2997360"/>
            <a:ext cx="1727280" cy="2288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norman_beaton"/>
          <p:cNvPicPr/>
          <p:nvPr/>
        </p:nvPicPr>
        <p:blipFill>
          <a:blip r:embed="rId4"/>
          <a:stretch/>
        </p:blipFill>
        <p:spPr>
          <a:xfrm>
            <a:off x="2411280" y="299736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nb2"/>
          <p:cNvPicPr/>
          <p:nvPr/>
        </p:nvPicPr>
        <p:blipFill>
          <a:blip r:embed="rId5"/>
          <a:stretch/>
        </p:blipFill>
        <p:spPr>
          <a:xfrm>
            <a:off x="108000" y="5437080"/>
            <a:ext cx="2087640" cy="142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trife"/>
          <p:cNvPicPr/>
          <p:nvPr/>
        </p:nvPicPr>
        <p:blipFill>
          <a:blip r:embed="rId6"/>
          <a:srcRect l="39965" t="0" r="0" b="0"/>
          <a:stretch/>
        </p:blipFill>
        <p:spPr>
          <a:xfrm>
            <a:off x="4427640" y="2997360"/>
            <a:ext cx="1623960" cy="1485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garybeadle"/>
          <p:cNvPicPr/>
          <p:nvPr/>
        </p:nvPicPr>
        <p:blipFill>
          <a:blip r:embed="rId7"/>
          <a:stretch/>
        </p:blipFill>
        <p:spPr>
          <a:xfrm>
            <a:off x="2411280" y="5445000"/>
            <a:ext cx="1619280" cy="990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4"/>
          <p:cNvSpPr/>
          <p:nvPr/>
        </p:nvSpPr>
        <p:spPr>
          <a:xfrm>
            <a:off x="6804000" y="587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ayne Cha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/W Compare the artic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2/3 articles on Kidulthood and Freestyl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are the ideas of both films from what the articles sa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e these representations considered an accurate reflectio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would you link these points to the four areas that your answers must contai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have we learned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will you improve your exam practice result for next month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theory can you apply to each film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me a key scene in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Kidulthoo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nd name the theory it relates to and the social implications of that view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me a key scene in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Freestyl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nd name the theory it relates to and the social implications of that view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rter: Who am I?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628280"/>
            <a:ext cx="7772400" cy="47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theory could we apply to the following characters? Or which ideas/ theories do they subver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5" descr="freestyle-dance-movie-001"/>
          <p:cNvPicPr/>
          <p:nvPr/>
        </p:nvPicPr>
        <p:blipFill>
          <a:blip r:embed="rId1"/>
          <a:srcRect l="0" t="0" r="55616" b="0"/>
          <a:stretch/>
        </p:blipFill>
        <p:spPr>
          <a:xfrm>
            <a:off x="539640" y="3176640"/>
            <a:ext cx="1944720" cy="262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freestyle-dance-movie-001"/>
          <p:cNvPicPr/>
          <p:nvPr/>
        </p:nvPicPr>
        <p:blipFill>
          <a:blip r:embed="rId2"/>
          <a:srcRect l="46019" t="0" r="0" b="0"/>
          <a:stretch/>
        </p:blipFill>
        <p:spPr>
          <a:xfrm>
            <a:off x="2916360" y="3176640"/>
            <a:ext cx="2365200" cy="26287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7"/>
          <p:cNvSpPr/>
          <p:nvPr/>
        </p:nvSpPr>
        <p:spPr>
          <a:xfrm>
            <a:off x="5651640" y="3228840"/>
            <a:ext cx="33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ayne Cha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acinth March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un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6836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on Cha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291636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dene March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reas of focus for section 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does contemporary media represent black people in different way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does contemporary representation compare to previous time period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are the social implications of different media representations of groups of peopl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o what extent is human identity increasingly ‘mediated’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O’s for this sec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O1: Demonstrate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knowledge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understanding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of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media concept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context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critical debate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, using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terminology appropriately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with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accurate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coherent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written express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O2: Apply knowledge and understanding to show how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meaning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re created when analysing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media product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evaluating their own practical work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odel answ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veryone has a copy of Jennifer’s response to the exam ques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alyse the ways in which the media represent one group of people that you have studied. [50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member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 can refer to other films you have studied/seen in relation to the representation of black people. But make the case studies your main focu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 will be discussing two media in the exam so ensure you include them both in the real th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lways refer to theory and with reference to the text, give examples of that particular represent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ave you essay structured; introduction, argument/discussion and conclus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fer to the question throughout your response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nsure you’re hitting the AO’s and the 4 areas throughout your respons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nsure your response flows well, has consistency and refers to present, past and future representations (with emphasis on the contemporary/present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ory in group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scuss in groups what theories you can apply to each film and wh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so consider the themes in each film and relate those to theory and represent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’ll then feedback your responses on the bo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hanges over time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is a 3 year gap between these film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ow have the representations of black people changed from 2006-2009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 pairs list your ideas and feedback to the clas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y Scene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do you think were the key scenes in the film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do you think audiences would react to these scenes? Would there be a social backlash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oose 3 for each film and discuss in groups then share with the clas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53:27Z</dcterms:created>
  <dc:creator>martinaos</dc:creator>
  <dc:description/>
  <dc:language>en-US</dc:language>
  <cp:lastModifiedBy>Martina</cp:lastModifiedBy>
  <dcterms:modified xsi:type="dcterms:W3CDTF">2010-11-11T22:01:46Z</dcterms:modified>
  <cp:revision>13</cp:revision>
  <dc:subject/>
  <dc:title>Comparison of KiDulthood and Freestyle</dc:title>
</cp:coreProperties>
</file>